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D20-6FDC-47E3-A734-867041DF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46E-CCAC-4725-A8DF-DBB83F5A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CBD-7025-4022-9A66-7C67B820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829-67D6-4C8A-8F84-72A198D3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915-0418-4CF5-8F07-25BCE1CC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2FA-57ED-44B1-A14E-C8A03018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BA5-4F1A-4325-944F-5C87C427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D4F-EB11-4221-B153-394E2816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1D0-631D-48E3-A20E-C346C3B6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302-62EE-4747-B4B8-F7703E07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8BC-D971-41DF-8EA0-99690ED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C4C-DE4F-4D91-AE6E-6EF08C18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C464-16D9-4658-9AB5-7ABA21944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zte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c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By Victoria Green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5.4 Explain why the Aztec and Inca civilizations declined in the 16th centu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A. the encounters between Cortez and Montez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B. the encounters between Pizarro and the In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C. the goals of the Spanish conquista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8560" y="134604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Aztecs sometime practiced </a:t>
            </a: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uma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sacrif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Aztec people were polytheistic.( they believed in many g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Aztec people lived in N. America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yramidOfTheMoonFromPyramidOfTheSun.jpg"/>
          <p:cNvPicPr/>
          <p:nvPr/>
        </p:nvPicPr>
        <p:blipFill>
          <a:blip r:embed="rId1"/>
          <a:stretch/>
        </p:blipFill>
        <p:spPr>
          <a:xfrm>
            <a:off x="7311960" y="0"/>
            <a:ext cx="183204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1-Aztec_Empire_Map.png"/>
          <p:cNvPicPr/>
          <p:nvPr/>
        </p:nvPicPr>
        <p:blipFill>
          <a:blip r:embed="rId2"/>
          <a:stretch/>
        </p:blipFill>
        <p:spPr>
          <a:xfrm>
            <a:off x="0" y="29718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as were polytheistic like the Azt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yas had slaves that some time gained there freed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Mayas region did not contain much gold it wasn’t valuable to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57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cas lived 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. America  along the wes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apital is Cuz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cas has no written language, but had spoke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y h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izarro took over the Incas because they had a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ivil war is having a fight with your own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96048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550600">
            <a:off x="6857640" y="380880"/>
            <a:ext cx="1679400" cy="221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rtez was not a g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he Aztecs thought he was a g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He traveled with 500 men and 16 horses to conquer  the Aztecs capital Tenochtitlan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he year 15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rtez got the other tribes to help him so it made it easer to take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izarro was a Spanish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nquis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izarro traveled with 180 men and 27 horses to conquer the Incas civi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Incas civilization covered around 20miles on the west cost of S.Amarica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y were 2hrs behind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9:42Z</dcterms:created>
  <dc:creator>jklib</dc:creator>
  <dc:description/>
  <dc:language>en-US</dc:language>
  <cp:lastModifiedBy>jklib</cp:lastModifiedBy>
  <dcterms:modified xsi:type="dcterms:W3CDTF">2011-11-30T17:35:28Z</dcterms:modified>
  <cp:revision>6</cp:revision>
  <dc:subject/>
  <dc:title>Slide 1</dc:title>
</cp:coreProperties>
</file>